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70F4D-F880-4900-9C9E-658A02B6C4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ae23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2851B-8253-48B5-9A59-5120812FD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D770F-E2DB-4371-8FA4-CE0240D85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F785C-2AFA-4C21-98AE-88479C752F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Nota para o apresentador: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Uma vez estudados e divulgados os resultados, o passo seguinte consiste em preparar um plano de ação para abordar áreas que motivem preocupação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Notas para o apresentador: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Use exemplos relevantes do seu próprio paí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3ACBC-0B05-41B3-90E8-4DB687B09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9EC2C-A5ED-49C8-B9A4-D6F5E5CF47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ota para o apresentador: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 ciclo de melhoria inicial está completo. No entanto, uma melhoria contínua requer que se inicie o planeamento de outra avaliação da situação. Em alternative, as instituições podem preferir iniciar o planeamento de uma avaliação ou auditoria que permita garantir que o plano de ação abordou o problema (p.ex. prescrição antibiótica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Nota para o apresentador: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s coordenadores nacionais do HALT coordinators devem atualizar esta secção com recursos sobre PCI relevantes para os seus paí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BD666-A5DB-4BC8-AC21-273DDFE62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54FE7-BE1D-49ED-9898-2B57C80FF0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Nota para o apresentador: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Para melhorar o cuidado dos residentes, toda a equipa de trabalho da “UCC” precisa de conhecer os resultados do estudo e que melhorias/mudanças estão planeadas como resposta a esse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A15D1-EA78-471F-AFE7-48ACA01CCE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Nota para o apresentador: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 Ciclo de Melhoria (“Audit Cycle”) (planear, fazer, avaliar e agir) garante que os resultados do HALT-3 são usados para melhorar o cuidado aos residentes. Nesta altura, as instituições participantes completaram o estudo e portanto agora os resultados necessitam de ser avaliados e deve-se agir sobre e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C2EC2-A8B2-4BE8-8DA2-C74560273F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Nota para o apresentador: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No entanto, dado que nem todos os centros participantes terão acesso a um GCL, nós forneceremos um breve resumo com os pontos-chave a considerar quando se der informação de retorno sobre os resultad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F2CE5-85AB-4A21-8F95-5583215AA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688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012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400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688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012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DF29-93A2-4B45-9A33-67265489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0A1-39A5-4853-8F49-D3F820B5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CB94-36FB-4BEF-BB20-33872A53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C8B9-BD0C-46FF-8D04-3CC73D2B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3EA-DCFD-42B8-9E0C-C9E9C51F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24000" y="142920"/>
            <a:ext cx="82296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342A-271A-4071-A34C-EE8A694F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F77E-2360-44FA-8C7A-07C58342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E02-415D-4CB4-A817-3A5ED851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2C3-4D45-4387-BDAB-1020DB15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951-9B9E-46E7-88D0-852EA3F0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BD7-C657-47AD-8A7D-46490F39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688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012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400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688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012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3F38-4471-42A5-908F-AC62944E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24000" y="142920"/>
            <a:ext cx="82296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0688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012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2400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0688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012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74CA2-80DE-4571-892C-9152C0ED65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F9AB4-086F-4790-9250-2A1C77A8D3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2C522-ED9E-4712-8ACB-09D9BC6C1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7F4FD-CE56-4DFF-B13B-CF594C98961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E151D-84BC-4B3D-85C8-D470A060E5E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24000" y="142920"/>
            <a:ext cx="82296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581B8-99DC-4A64-8468-D7E597CF101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ED0ED-BFBF-47E6-B99E-618AD18F75E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BF81E-3E25-4C7A-9778-93D5FD83A8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3498F-CB71-49FA-B58F-B030CAEF0B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9A549-8945-4B00-9507-E35B6016B5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E6CB9-E7E7-46E7-9200-5A95108230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0688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012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2400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0688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012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A369D-18DC-4DBE-9321-A6DE6422A13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02BBE-45C5-4886-BD2F-993D2AE5A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98920-C7A4-475F-9AFF-81C43E5F94E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609BA-F903-4F52-983C-E45E423C23E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8AAC6-DCBD-47DC-849B-0F313ABC4E3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A2D45-C392-4E96-8704-6EBAB631CDA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24000" y="142920"/>
            <a:ext cx="82296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713D8-EF38-478A-9E30-BAAF83EE201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FBAD7-CA5B-4245-B24A-CBAA5F07831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036C9-050A-41C5-A23F-BADDBA6B644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C7C87-20C3-4DB1-A874-61764442DE9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15D29-FB46-416E-A629-77856BE7D10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17099-2699-4D2F-BF98-AC7CEADED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24000" y="142920"/>
            <a:ext cx="82296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0688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012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2400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0688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9012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CC6B1-6902-4DAE-B1A7-8E51B147A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Presentation_Template_Innerpage_new"/>
          <p:cNvPicPr/>
          <p:nvPr/>
        </p:nvPicPr>
        <p:blipFill>
          <a:blip r:embed="rId2"/>
          <a:srcRect l="0" t="92173" r="0" b="0"/>
          <a:stretch/>
        </p:blipFill>
        <p:spPr>
          <a:xfrm>
            <a:off x="0" y="6321600"/>
            <a:ext cx="9144000" cy="536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8096400" y="108000"/>
            <a:ext cx="882360" cy="79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ae2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80009-14A2-436C-9F9B-319468B9D8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5A811-460C-459A-994B-DE970FEE8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Presentation_Template_Innerpage_new"/>
          <p:cNvPicPr/>
          <p:nvPr/>
        </p:nvPicPr>
        <p:blipFill>
          <a:blip r:embed="rId2"/>
          <a:srcRect l="0" t="92173" r="0" b="0"/>
          <a:stretch/>
        </p:blipFill>
        <p:spPr>
          <a:xfrm>
            <a:off x="0" y="6321600"/>
            <a:ext cx="9144000" cy="536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8096400" y="108000"/>
            <a:ext cx="882360" cy="793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Presentation_Template_Title_new"/>
          <p:cNvPicPr/>
          <p:nvPr/>
        </p:nvPicPr>
        <p:blipFill>
          <a:blip r:embed="rId4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7423200" y="504720"/>
            <a:ext cx="1263600" cy="1136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ae2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" descr="Presentation_Template_Innerpage_new"/>
          <p:cNvPicPr/>
          <p:nvPr/>
        </p:nvPicPr>
        <p:blipFill>
          <a:blip r:embed="rId2"/>
          <a:srcRect l="0" t="92173" r="0" b="0"/>
          <a:stretch/>
        </p:blipFill>
        <p:spPr>
          <a:xfrm>
            <a:off x="0" y="6321600"/>
            <a:ext cx="9144000" cy="536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8096400" y="108000"/>
            <a:ext cx="882360" cy="793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ae2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009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F761B-1BED-4DAA-BFE5-2BA98166470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9" descr="Presentation_Template_Innerpage_new"/>
          <p:cNvPicPr/>
          <p:nvPr/>
        </p:nvPicPr>
        <p:blipFill>
          <a:blip r:embed="rId2"/>
          <a:srcRect l="0" t="92173" r="0" b="0"/>
          <a:stretch/>
        </p:blipFill>
        <p:spPr>
          <a:xfrm>
            <a:off x="0" y="6321600"/>
            <a:ext cx="9144000" cy="536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8096400" y="108000"/>
            <a:ext cx="882360" cy="7938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ae2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7009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93159-DD18-4CC7-B62D-2766EC312BD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691080"/>
            <a:ext cx="845640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Apresentação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9</a:t>
            </a:r>
            <a:endParaRPr b="1" lang="en-US" sz="32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24000" y="4317840"/>
            <a:ext cx="84564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Tahoma"/>
              </a:rPr>
              <a:t>Participámos! E agora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40752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DIVULGAR OS RESULTADOS: QUANDO?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736640"/>
            <a:ext cx="8526240" cy="501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Rapidamente após o estudo, para que se possa atu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Procure ter resultados disponíveis em 3-4 meses e preferivelmente não mais de 6 meses após o estudo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7430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COMO DIVULGAR A INFORMAÇÃO DE RETORNO?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24000" y="2017800"/>
            <a:ext cx="8526240" cy="42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Cada instituição deve decidir qual a melhor forma de divulgar os resultados aos diferentes grup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Apresentações formais e informa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Relatório escri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Folheto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Incluir a divulgação dos resultados em programas de formação regula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81080" indent="-181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81080" indent="-181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36600" y="155520"/>
            <a:ext cx="7834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COMO PODE O CUIDADO AOS RESIDENTES SER MELHORADO?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1079640"/>
            <a:ext cx="8526240" cy="51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ICLO DE MELHOR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5540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PLANO DE AÇÃO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24000" y="1630440"/>
            <a:ext cx="8526240" cy="46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A Administração da instituição deve preparar e implementar um plano de açã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O plano de ação de incluir prazos e pessoa(s) nomeada(s) como responsáveis por cada elemento do pla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A Administração da instituição de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Monitorizar a implementação do plano de açã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Planificar a realização de vigilâncias / auditorias repetidas para garantir que o plano de ação aborda os aspetos necessá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24000" y="1351080"/>
            <a:ext cx="868680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mplementar uma </a:t>
            </a:r>
            <a:r>
              <a:rPr b="0" i="1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ecklist</a:t>
            </a:r>
            <a:r>
              <a:rPr b="0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de auditoria e monitorização para medir a adesão a todas as recomendações de prevenção e controlo de infe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pacitar os enfermeiros para rever as análises de ur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azer circular as recomendações nacionais entre os prescritores: “Feixe de Intervenções de Prevenção da Infeção Urinária Associada ao Cateter Vesical” (</a:t>
            </a:r>
            <a:r>
              <a:rPr b="0" i="1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orma DGS 019/2015</a:t>
            </a:r>
            <a:r>
              <a:rPr b="0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, “Terapêutica de infeções do aparelho urinário (comunidade)”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(Norma DGS 015/2011).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omover um estudo piloto de um feixe de intervenções de terapêutica antimicrobiana.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863800" y="5365800"/>
            <a:ext cx="6135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1800" spc="-1" strike="noStrike">
                <a:solidFill>
                  <a:srgbClr val="4d4d4d"/>
                </a:solidFill>
                <a:latin typeface="Comic Sans MS"/>
                <a:ea typeface="ＭＳ Ｐゴシック"/>
              </a:rPr>
              <a:t>Moran &amp;  Rooney;  Patient Safety Conference, Royal College of Physicians,  Dublin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PLANO DE AÇÃO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079640"/>
            <a:ext cx="8526240" cy="51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ICLO DE MELHO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482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36600" y="155520"/>
            <a:ext cx="7834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COMO PODE O CUIDADO AOS RESIDENTES SER MELHORADO?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85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AVALIAR O HALT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24000" y="1207800"/>
            <a:ext cx="8526240" cy="503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Reveja a sua experiência de realização do estudo na sua instituiçã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Consider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O treino foi suficiente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O estudo demorou quanto tempo a ser completado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Que problemas ocorreram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De que forma poderia o estudo ser melhorado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A sua instituição estaria interessada em repetir o estudo?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Dê informação de retorno com os seus comentários ao seu coordenador naciona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5540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RESUMO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24000" y="1526760"/>
            <a:ext cx="8526240" cy="516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A realização de qualquer projeto de vigilância exige empenho e recurs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No entanto, os residentes só irão beneficiar s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Os resultados forem comunicados à equipa de trabalho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For desenvolvido um plano de ação para abordar quaisquer lacunas e deficiências identifica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RECURSOS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079640"/>
            <a:ext cx="862776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88000" indent="-2880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eudorf U </a:t>
            </a:r>
            <a:r>
              <a:rPr b="0" i="1" lang="en-GB" sz="1600" spc="-1" strike="noStrike">
                <a:solidFill>
                  <a:srgbClr val="000000"/>
                </a:solidFill>
                <a:latin typeface="Tahoma"/>
              </a:rPr>
              <a:t>et al.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ealthcare-associated infections in long-term care facilities (HALT) in Frankfurt am Main, Germany, January to March 2011. Euro Surveill. 2012;17(35):pii=20256. Available online: http://www.eurosurveillance.org/ViewArticle.aspx?ArticleId=20256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radley S. </a:t>
            </a:r>
            <a:r>
              <a:rPr b="0" lang="en-IE" sz="1600" spc="-1" strike="noStrike">
                <a:solidFill>
                  <a:srgbClr val="000000"/>
                </a:solidFill>
                <a:latin typeface="Tahoma"/>
              </a:rPr>
              <a:t>Strategies to improve outcomes in nursing home residents with modifiable risk factors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respiratory tract infections. Pennsylvania Patient Safety Advisory;  2011; 8 (4): 131-7 http://patientsafetyauthority.org/ADVISORIES/AdvisoryLibrary/2011/dec8(4)/Pages/131.aspx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ts val="25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National Clinical Guideline Centre: </a:t>
            </a:r>
            <a:r>
              <a:rPr b="0" lang="en-IE" sz="1600" spc="-1" strike="noStrike">
                <a:solidFill>
                  <a:srgbClr val="000000"/>
                </a:solidFill>
                <a:latin typeface="Tahoma"/>
              </a:rPr>
              <a:t>Infection: prevention and control of healthcare-associated infections in primary and community care. 2012  </a:t>
            </a:r>
            <a:r>
              <a:rPr b="0" lang="en-I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Tahoma"/>
              </a:rPr>
              <a:t> http://www.nice.org.uk/nicemedia/live/13684/58654/58654.pd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ts val="25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ahoma"/>
              </a:rPr>
              <a:t>HSE/HPSC 2011. Diagnosis &amp; Management of Urinary Tract Infection in Long Term Care Residents &gt;65yrs. http://www.hpsc.ie/hpsc/A-Z/MicrobiologyAntimicrobialResistance/InfectionControlandHAI/Guidelines/File,12929,en.pd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ts val="25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ts val="25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OBJETIVOS DA APRESENTAÇÃO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4000" y="1079640"/>
            <a:ext cx="8526240" cy="51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Descrever como a informação pode ser usada para a açã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Sublinhar como deve ser dada a informação de retorno sobre os result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7352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Quem deverá receber informação de retorno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7352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Que informação deverá ser incluid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Explicar como deve ser entregue a informação de retor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7352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Quando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7352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Como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Exemplificar como se pode melhorar o cuidado dos resid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Descrever como pode ser avaliada a experiência de participação no estudo HALT-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4000" spc="-1" strike="noStrike">
                <a:solidFill>
                  <a:srgbClr val="0000ff"/>
                </a:solidFill>
                <a:latin typeface="Calibri"/>
              </a:rPr>
              <a:t>INFORMAÇÃO PARA A AÇÃO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680" y="0"/>
            <a:ext cx="10699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INFORMAÇÃO PARA A AÇÃO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079640"/>
            <a:ext cx="8526240" cy="51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ahoma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Colheita e análise sistemática dos dados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Tahoma"/>
              </a:rPr>
              <a:t>e o uso desta informação para a </a:t>
            </a:r>
            <a:r>
              <a:rPr b="0" i="1" lang="pt-PT" sz="2400" spc="-1" strike="noStrike" u="sng">
                <a:solidFill>
                  <a:srgbClr val="ff0000"/>
                </a:solidFill>
                <a:uFillTx/>
                <a:latin typeface="Tahoma"/>
              </a:rPr>
              <a:t>ação</a:t>
            </a:r>
            <a:r>
              <a:rPr b="0" lang="pt-PT" sz="24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p.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Melhorar o cuidado aos reside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Reduzir a ocorrência de IACS preveníve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Reduzir o uso inapropriado de antibiót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Comparar com outras instituições com o mesmo tipo de doe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4000" y="1079640"/>
            <a:ext cx="8526240" cy="51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ICLO DE MELHO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48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INFORMAÇÃO PARA A AÇÃO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7080" y="5540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PREPARANDO A INFORMAÇÃO DE RETORNO SOBRE OS RESULTADOS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44080" y="1805040"/>
            <a:ext cx="8526600" cy="41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Consulte a sua equipa local de prevenção e controlo de infeção (GCL) e solicite apoio para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7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Comparar os seus resultados com outros locais/nacionais/internationa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7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Adequar a informação de retorno aos diferentes grupos da equipa de trabalh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7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Explique os dados sobre os fatores de ri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7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Desenvolva planos de ação dirigidos a áreas de particular preocup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4160" y="6397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QUEM DEVERÁ RECEBER INFORMAÇÃO DE RETORNO?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4000" y="1590840"/>
            <a:ext cx="8526240" cy="465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A equipa superior de gestão operacional (Administraçã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Comissão de prevenção e controlo da infeção (GCL-PPCIR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Todos os membros relevantes da equipa cuidadora (médicos, enfermeiros, assistentes operacionais, etc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Residentes e famílias/cuid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Em alguns países pode ser exigido relatório externo (p.ex. serviços de saúde pública, entidades reguladoras)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81080" indent="-181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56628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QUE INFORMAÇÃO?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35000" y="1144440"/>
            <a:ext cx="8701200" cy="51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O centro coordenador nacional pode fornecer um relatório local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6040" indent="-176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Se for VOCÊ a elaborar o relatório, inclua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Número de residentes elegíveis para particip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% de residentes com infeção(ões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Tipo de infeções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% de residentes sob antimicrobiano(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Inclua os tipos de antimicrobianos e porque foram prescritos (terapêutica/profilaxi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% de residentes com fatores de risco para infeçã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% de residentes com cateter urinário/cateteres vasculares/feridas/úlceras de pressão, etc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Recursos para prevenção e controlo de infeçã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Recursos para apoio à prescrição antibiót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6040" indent="-176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6040" indent="-176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44440" y="755280"/>
            <a:ext cx="8229600" cy="6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QUE INFORMAÇÃO?(2)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44080" y="1715760"/>
            <a:ext cx="8526600" cy="418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Compare com instituições semelh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Compare com os resultados do estudo HALT de 2010 ou 2013, se realizados na instituiçã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pt-PT" sz="1800" spc="-1" strike="noStrike">
                <a:solidFill>
                  <a:srgbClr val="ff0000"/>
                </a:solidFill>
                <a:latin typeface="Tahoma"/>
              </a:rPr>
              <a:t>Cuidado ao comparar taxas de infeção, já que as definições de IACS utilizadas em 2010 e 2013 não são as mesmas que as usadas no presente estu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Os dados de antimicrobianos e fatores de risco permaneceram maioritariamente inalterados e podem ser compara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5T19:01:59Z</dcterms:created>
  <dc:creator>David Daly</dc:creator>
  <dc:description/>
  <dc:language>en-US</dc:language>
  <cp:lastModifiedBy>Margarida</cp:lastModifiedBy>
  <cp:lastPrinted>2012-06-14T09:00:27Z</cp:lastPrinted>
  <dcterms:modified xsi:type="dcterms:W3CDTF">2017-03-12T17:24:59Z</dcterms:modified>
  <cp:revision>290</cp:revision>
  <dc:subject/>
  <dc:title>Preparing for participation in HALT-2</dc:title>
</cp:coreProperties>
</file>